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projctor.wav" ContentType="audio/x-wav"/>
  <Override PartName="/ppt/media/image8.png" ContentType="image/png"/>
  <Override PartName="/ppt/media/carbrake.wav" ContentType="audio/x-wav"/>
  <Override PartName="/ppt/media/image7.png" ContentType="image/png"/>
  <Override PartName="/ppt/media/image1.jpeg" ContentType="image/jpeg"/>
  <Override PartName="/ppt/media/drumroll.wav" ContentType="audio/x-wav"/>
  <Override PartName="/ppt/media/rain.wav" ContentType="audio/x-wav"/>
  <Override PartName="/ppt/media/wind%20approaching%20sound.wav" ContentType="audio/x-wav"/>
  <Override PartName="/ppt/media/image3.png" ContentType="image/png"/>
  <Override PartName="/ppt/media/image12.png" ContentType="image/png"/>
  <Override PartName="/ppt/media/image11.png" ContentType="image/png"/>
  <Override PartName="/ppt/media/image6.png" ContentType="image/png"/>
  <Override PartName="/ppt/media/wind%20big%202.wav" ContentType="audio/x-wav"/>
  <Override PartName="/ppt/media/image9.gif" ContentType="image/gif"/>
  <Override PartName="/ppt/media/applause.wav" ContentType="audio/x-wav"/>
  <Override PartName="/ppt/media/image10.png" ContentType="image/png"/>
  <Override PartName="/ppt/media/glass.wav" ContentType="audio/x-wav"/>
  <Override PartName="/ppt/media/image5.png" ContentType="image/png"/>
  <Override PartName="/ppt/media/whoosh.wav" ContentType="audio/x-wav"/>
  <Override PartName="/ppt/media/image2.png" ContentType="image/png"/>
  <Override PartName="/ppt/media/image4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4797-A75C-4B78-8523-E15AAB130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A84A-EE4D-4459-A454-24BF9AA40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2774-19E0-4DDD-AAC8-5EF708E69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9ED0-CEF5-43E7-B40E-98204235C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EE3F-7DCC-4033-BCAA-94C1F38D4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221D-4EEC-4992-A80C-6A76701E3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51A9-D8A4-4EC6-AE7E-8A0CAB3AB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0C83-2B3E-454D-9E93-310E08117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489C-1C94-4894-A4C6-7CE3D4BD6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B852-DF9E-41A4-BD1B-B833EB188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BADA-1951-41DC-AC65-DE789055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76B4-D0ED-4C90-8E9A-0B1E80420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DFD9-BB21-43E1-845E-3066FCF6C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41CA0-5F38-4EB9-9E11-8D1001529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57C7-1F4A-48B5-B196-395B1344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05C5-BC5B-4B42-A9D9-7824DACF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6286D-2C68-4C10-92AE-8DE4935F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8F564-A5C5-48D2-88E2-6D8210EA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6E00-A778-4D15-8567-88A32830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B148-72D9-492C-978D-2AF22385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E407-E128-4AC4-BCCD-76A29BAB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F00A-CB8A-45C3-A93F-65AB11DC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AEB6-4DEB-43B5-BC6C-56C3A5F8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EDBE-3C66-468D-8019-907D3C73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43EF-C79E-4FF4-9479-0EAA4BC71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6EC21-15EF-448A-93C5-732EB5CFC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C0F0F-D5D0-493B-8ADE-F3E2D43CE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B4600-A729-43DF-96B5-4F29CFE9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5A48E-59FD-4EEB-BC64-A0C28E1B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12DCD-1568-452A-BB0C-2993378D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C3C98-64F9-4CCC-AB4D-C15DE321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B479-2756-4516-A4C8-35C633BF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005B0-4161-402C-B07C-2D3EDD6A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A85C6-5398-4CEB-AF01-4010ADF8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B559C-81C7-4F8C-999E-18DCFAB0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AAD90-372F-45FB-9322-2B4F3493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E4D40-274C-474A-8CA5-71E680E6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29849-1308-4C91-AEBB-3A02E960F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CE839-30C6-4257-9002-79BB106D8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A1FAC-9EF9-48F3-A2F0-767378AB2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938E0-AB00-4DCE-99F6-CBEBBBDD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472F6-D033-4982-8156-063A3661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9984-2AB3-47E3-8ABC-5AF3E4CF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14817-AA2E-4682-B546-4F04B7FB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6E9C6-F387-4C66-B88D-BD914BD8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BA7C5-B41A-47D7-8684-43200D76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78B1C-142D-4EF3-9282-D874ACF7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75818-05FE-401A-9917-E8098E92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3A60D-8B4A-4B1F-B535-A01EC090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9D044-01A2-4F1D-BEB3-B806246F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E6AD3-F422-4AD0-9F99-14C60248D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58C27-3A58-4B18-A84C-BC3D1B03A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82EBF-68F0-4148-95C3-5CC2B184F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643C-C931-43F5-89FC-FCE570BB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657E0-D888-41AB-B6F9-CE3E1314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50A71-9DB9-4C6F-B09D-21D2C201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2D572-6F3D-48CC-9A5C-74D4243A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DF9FB-D4F0-468C-9D2B-8F19D78F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AA272-E88B-4F25-A5DC-19B978E6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5CD21-F59B-41A4-99FC-B6D1B2F7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02680-73C8-4C73-ADDB-477F7284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A7F5A-856D-4093-9E6C-038232A1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7869E-2523-40F2-BF98-58AD8C3D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7F05B-8F26-4A80-AC6B-10BA7F155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FB7A-E221-45E3-A702-1B6F9BEE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B6019-1C05-4018-9AA7-E805D8114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04E6B-A23D-4132-86A4-F625778A2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B3B50-157E-4A3D-8C0B-4A00A209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9EB77-CDF0-4804-9E54-B9242582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7B82F-F14A-4165-87FD-4F348102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DC05E-0229-42F8-ACB4-BA72DBB3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EE4B4-6B2A-4593-B977-2C3EC96D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7E970-20C4-4411-B92F-90B16ECC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5A23F-904D-456B-BB38-76636EC8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B8C7F-BFB4-458C-8864-2D1A2B2B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7BD5-BDE5-4128-B4F2-FD446C72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1EB8B-4169-4F28-B512-9044380D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FE208-F087-4165-B68F-ED79D333F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720E8-C562-4345-830D-5DFFF5A0B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6B787-9D7D-441D-AAA4-C79DC63BB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74C9D-AC6F-4849-9A2B-D1DBFF81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73838-3D62-42CB-881D-06387EBF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AEBAB-7CA2-4463-A80F-5B9BE79C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4A6A0-8E8A-4477-9A72-40CF5194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FAE73-257C-4F5A-B133-7F1E4120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9FD87-2B22-4858-BCFE-0595AE9B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0519-0CDC-465E-9CF4-9E7159EF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D1AE4-337F-42AD-B561-79B399E2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E05FF-2B9B-4FF9-A893-92A7D7AC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B3128-0FAF-43A9-A406-BBABCC72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C85C9-36F9-42BF-B07D-A4A994F9F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7FED9-DB1F-4CB2-9991-D919AFC96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821B-9807-4F3F-86AB-56A48793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7F7A-A8B9-4C45-BF67-B9714356C96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09A1-BA87-4E7D-817A-AD6FFF50742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A7BF-FBA2-4AA7-8797-EC49D5934E9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E3A8-3312-4173-9EBD-4926E14FA4C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3BAA-FA24-4D4E-880C-95EB1046362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514B-9E15-4F56-AE33-071BD225D3F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3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8887-F3BA-4E27-9CF3-F3D227A6C88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whoosh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audio" Target="../media/wind%20approaching%20sound.wav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audio" Target="../media/wind%20big%202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audio" Target="../media/rain.wav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2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497800" cy="191448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3244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nstantia"/>
              </a:rPr>
              <a:t>What are they? What do they do?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4" descr="weather-symbols-636.jpg"/>
          <p:cNvPicPr/>
          <p:nvPr/>
        </p:nvPicPr>
        <p:blipFill>
          <a:blip r:embed="rId1"/>
          <a:stretch/>
        </p:blipFill>
        <p:spPr>
          <a:xfrm>
            <a:off x="-85680" y="-139680"/>
            <a:ext cx="9369360" cy="708336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c000"/>
                </a:solidFill>
                <a:latin typeface="Calibri"/>
              </a:rPr>
              <a:t>Today’s Objectiv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04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GLE 0607.8.4  Analyze meteorological data to predict weather condition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Students will be able to name 4 tools that used to predict weather condition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The Most Common Weather Tools Are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98040" y="1665000"/>
            <a:ext cx="77598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Thermometer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Wind Vane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Anemometer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Barometer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Rain Gauge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3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3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4617b"/>
                </a:solidFill>
                <a:latin typeface="Harrington"/>
              </a:rPr>
              <a:t>Thermometer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 thermometer is a weather tool used to measure the temperatur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1" name="Picture 1035" descr="F:\Manning_Becky\images_sounds\black and white thermometer.gif"/>
          <p:cNvPicPr/>
          <p:nvPr/>
        </p:nvPicPr>
        <p:blipFill>
          <a:blip r:embed="rId1"/>
          <a:stretch/>
        </p:blipFill>
        <p:spPr>
          <a:xfrm>
            <a:off x="5789520" y="1765440"/>
            <a:ext cx="155268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4617b"/>
                </a:solidFill>
                <a:latin typeface="Harrington"/>
              </a:rPr>
              <a:t>Wind Vane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y observing wind vanes, we can know the direction of the wind.  Knowing the direction of the wind is an important part in predicting the weathe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4" name="Picture 7" descr="F:\Manning_Becky\images_sounds\wind vane.gif"/>
          <p:cNvPicPr/>
          <p:nvPr/>
        </p:nvPicPr>
        <p:blipFill>
          <a:blip r:embed="rId1"/>
          <a:stretch/>
        </p:blipFill>
        <p:spPr>
          <a:xfrm>
            <a:off x="5803920" y="2984400"/>
            <a:ext cx="152388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%20approaching%20sou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4617b"/>
                </a:solidFill>
                <a:latin typeface="Calibri"/>
              </a:rPr>
              <a:t>Anemometer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66" name="Object 5"/>
          <p:cNvGraphicFramePr/>
          <p:nvPr/>
        </p:nvGraphicFramePr>
        <p:xfrm>
          <a:off x="2151000" y="3151080"/>
          <a:ext cx="90504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1000" y="3151080"/>
                    <a:ext cx="9050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660560" y="1665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ind speed is an important part of weath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 anemometer is a weather tool that measures wind spe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%20big%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4617b"/>
                </a:solidFill>
                <a:latin typeface="Calibri"/>
              </a:rPr>
              <a:t>Barometer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rometers are important to measuring air pressure.  Air pressure can help you predict good or bad weath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71" name="Object 4"/>
          <p:cNvGraphicFramePr/>
          <p:nvPr/>
        </p:nvGraphicFramePr>
        <p:xfrm>
          <a:off x="6170760" y="3127320"/>
          <a:ext cx="790560" cy="119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0760" y="3127320"/>
                    <a:ext cx="79056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4617b"/>
                </a:solidFill>
                <a:latin typeface="Calibri"/>
              </a:rPr>
              <a:t>Rain Gauge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74" name="Object 3"/>
          <p:cNvGraphicFramePr/>
          <p:nvPr/>
        </p:nvGraphicFramePr>
        <p:xfrm>
          <a:off x="698400" y="2293920"/>
          <a:ext cx="3810240" cy="28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2293920"/>
                    <a:ext cx="381024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660560" y="1665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 rain gauge is a weather tool used to collect rain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Using measurements on the side of the rain gauge, you can see how many inches it raine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a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9T18:38:01Z</dcterms:created>
  <dc:creator>Su Hu</dc:creator>
  <dc:description/>
  <dc:language>en-US</dc:language>
  <cp:lastModifiedBy>Valued Acer Customer</cp:lastModifiedBy>
  <dcterms:modified xsi:type="dcterms:W3CDTF">2010-02-04T08:49:44Z</dcterms:modified>
  <cp:revision>7</cp:revision>
  <dc:subject/>
  <dc:title>Weather Tools</dc:title>
</cp:coreProperties>
</file>